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AE4-011F-4DCF-A475-4F2EDBA8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38B-04BB-4EBD-936A-6DFA1FF4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167-D555-43F5-8FB9-90F826D1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6E5-BF94-4C5D-A44F-F2E3CEB8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C209-F1FE-4AE9-B367-B9438AB3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4199-229B-425A-8868-FB6E7AA7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9FC6-4BC5-476E-9893-A44D47CE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4C3C-9C93-47D1-A3BD-C90806E2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7B64-5456-4B66-9A3C-37EBB52C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3951-19C0-4C64-8110-78409EB3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43CB-B8A1-40DA-9A3E-DD6C1B57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417-83CA-415A-B075-5AE105EB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ABA1-AB30-45C7-9F0C-7B091455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D9A1-D8F3-4E24-8714-56C4E107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13D8-1648-48FE-A90B-375CFDEA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CA2C-DA9D-467D-A738-C1CE0604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B885-9AC9-4E62-BF02-C2BD6D1B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7A0-902A-4F4F-ACDE-871E074F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E05-C85D-4FFE-B536-C5F5C234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E30-3AE8-4139-99D7-A9B982C3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EA7-3F72-461B-9213-E6C3D436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C979-8BB7-4FE7-8A78-B2508634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C08-2DEC-41B0-8415-B1A60768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47A-321A-49AE-BA50-526146CD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9E24-A1DE-4165-A49E-3E39D97B80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5CB8-EE4C-4C66-9D5C-448DA63181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artcyclopedia.com/artists/picabia_francis.html" TargetMode="External"/><Relationship Id="rId2" Type="http://schemas.openxmlformats.org/officeDocument/2006/relationships/hyperlink" Target="http://www.artcyclopedia.com/artists/picabia_francis.html" TargetMode="External"/><Relationship Id="rId3" Type="http://schemas.openxmlformats.org/officeDocument/2006/relationships/hyperlink" Target="http://www.artcyclopedia.com/artists/arp_jean.html" TargetMode="External"/><Relationship Id="rId4" Type="http://schemas.openxmlformats.org/officeDocument/2006/relationships/hyperlink" Target="http://www.artcyclopedia.com/goto/prints-126206" TargetMode="External"/><Relationship Id="rId5" Type="http://schemas.openxmlformats.org/officeDocument/2006/relationships/hyperlink" Target="http://www.artcyclopedia.com/artists/duchamp_marcel.html" TargetMode="External"/><Relationship Id="rId6" Type="http://schemas.openxmlformats.org/officeDocument/2006/relationships/hyperlink" Target="http://www.artcyclopedia.com/goto/prints-290895" TargetMode="External"/><Relationship Id="rId7" Type="http://schemas.openxmlformats.org/officeDocument/2006/relationships/hyperlink" Target="http://www.artcyclopedia.com/artists/nash_paul.html" TargetMode="External"/><Relationship Id="rId8" Type="http://schemas.openxmlformats.org/officeDocument/2006/relationships/hyperlink" Target="http://www.artcyclopedia.com/artists/man_ray.html" TargetMode="External"/><Relationship Id="rId9" Type="http://schemas.openxmlformats.org/officeDocument/2006/relationships/hyperlink" Target="http://www.artcyclopedia.com/goto/prints-267444" TargetMode="External"/><Relationship Id="rId10" Type="http://schemas.openxmlformats.org/officeDocument/2006/relationships/hyperlink" Target="http://www.artcyclopedia.com/artists/ernst_max.html" TargetMode="External"/><Relationship Id="rId11" Type="http://schemas.openxmlformats.org/officeDocument/2006/relationships/hyperlink" Target="http://www.artcyclopedia.com/goto/prints-261236" TargetMode="External"/><Relationship Id="rId12" Type="http://schemas.openxmlformats.org/officeDocument/2006/relationships/hyperlink" Target="http://www.artcyclopedia.com/artists/savinio_alberto.html" TargetMode="External"/><Relationship Id="rId13" Type="http://schemas.openxmlformats.org/officeDocument/2006/relationships/hyperlink" Target="http://www.artcyclopedia.com/artists/savinio_alberto.html" TargetMode="External"/><Relationship Id="rId14" Type="http://schemas.openxmlformats.org/officeDocument/2006/relationships/hyperlink" Target="http://www.artcyclopedia.com/artists/miro_joan.html" TargetMode="External"/><Relationship Id="rId15" Type="http://schemas.openxmlformats.org/officeDocument/2006/relationships/hyperlink" Target="http://www.artcyclopedia.com/artists/miro_joan.html" TargetMode="External"/><Relationship Id="rId16" Type="http://schemas.openxmlformats.org/officeDocument/2006/relationships/hyperlink" Target="http://www.artcyclopedia.com/goto/prints-267930" TargetMode="External"/><Relationship Id="rId17" Type="http://schemas.openxmlformats.org/officeDocument/2006/relationships/hyperlink" Target="http://www.artcyclopedia.com/artists/cahun_claude.html" TargetMode="External"/><Relationship Id="rId18" Type="http://schemas.openxmlformats.org/officeDocument/2006/relationships/hyperlink" Target="http://www.artcyclopedia.com/artists/cahun_claude.html" TargetMode="External"/><Relationship Id="rId19" Type="http://schemas.openxmlformats.org/officeDocument/2006/relationships/hyperlink" Target="http://www.artcyclopedia.com/artists/breton_andre.html" TargetMode="External"/><Relationship Id="rId20" Type="http://schemas.openxmlformats.org/officeDocument/2006/relationships/hyperlink" Target="http://www.artcyclopedia.com/goto/prints-1590366" TargetMode="External"/><Relationship Id="rId21" Type="http://schemas.openxmlformats.org/officeDocument/2006/relationships/hyperlink" Target="http://www.artcyclopedia.com/artists/masson_andre.html" TargetMode="External"/><Relationship Id="rId22" Type="http://schemas.openxmlformats.org/officeDocument/2006/relationships/hyperlink" Target="http://www.artcyclopedia.com/artists/delvaux_paul.html" TargetMode="External"/><Relationship Id="rId23" Type="http://schemas.openxmlformats.org/officeDocument/2006/relationships/hyperlink" Target="http://www.artcyclopedia.com/artists/delvaux_paul.html" TargetMode="External"/><Relationship Id="rId24" Type="http://schemas.openxmlformats.org/officeDocument/2006/relationships/hyperlink" Target="http://www.artcyclopedia.com/goto/prints-126374" TargetMode="External"/><Relationship Id="rId25" Type="http://schemas.openxmlformats.org/officeDocument/2006/relationships/hyperlink" Target="http://www.artcyclopedia.com/artists/sage_kay.html" TargetMode="External"/><Relationship Id="rId26" Type="http://schemas.openxmlformats.org/officeDocument/2006/relationships/hyperlink" Target="http://www.artcyclopedia.com/artists/tchelitchew_pavel.html" TargetMode="External"/><Relationship Id="rId27" Type="http://schemas.openxmlformats.org/officeDocument/2006/relationships/hyperlink" Target="http://www.artcyclopedia.com/artists/tchelitchew_pavel.html" TargetMode="External"/><Relationship Id="rId28" Type="http://schemas.openxmlformats.org/officeDocument/2006/relationships/hyperlink" Target="http://www.artcyclopedia.com/artists/tchelitchew_pavel.html" TargetMode="External"/><Relationship Id="rId29" Type="http://schemas.openxmlformats.org/officeDocument/2006/relationships/hyperlink" Target="http://www.artcyclopedia.com/artists/agar_eileen.html" TargetMode="External"/><Relationship Id="rId30" Type="http://schemas.openxmlformats.org/officeDocument/2006/relationships/hyperlink" Target="http://www.artcyclopedia.com/artists/tanguy_yves.html" TargetMode="External"/><Relationship Id="rId31" Type="http://schemas.openxmlformats.org/officeDocument/2006/relationships/hyperlink" Target="http://www.artcyclopedia.com/artists/hayter_stanley_william.html" TargetMode="External"/><Relationship Id="rId32" Type="http://schemas.openxmlformats.org/officeDocument/2006/relationships/hyperlink" Target="http://www.artcyclopedia.com/artists/hayter_stanley_william.html" TargetMode="External"/><Relationship Id="rId33" Type="http://schemas.openxmlformats.org/officeDocument/2006/relationships/hyperlink" Target="http://www.artcyclopedia.com/artists/bellmer_hans.html" TargetMode="External"/><Relationship Id="rId34" Type="http://schemas.openxmlformats.org/officeDocument/2006/relationships/hyperlink" Target="http://www.artcyclopedia.com/artists/bellmer_hans.html" TargetMode="External"/><Relationship Id="rId35" Type="http://schemas.openxmlformats.org/officeDocument/2006/relationships/hyperlink" Target="http://www.artcyclopedia.com/artists/margo_boris.html" TargetMode="External"/><Relationship Id="rId36" Type="http://schemas.openxmlformats.org/officeDocument/2006/relationships/hyperlink" Target="http://www.artcyclopedia.com/artists/brauner_victor.html" TargetMode="External"/><Relationship Id="rId37" Type="http://schemas.openxmlformats.org/officeDocument/2006/relationships/hyperlink" Target="http://www.artcyclopedia.com/artists/brauner_victor.html" TargetMode="External"/><Relationship Id="rId38" Type="http://schemas.openxmlformats.org/officeDocument/2006/relationships/hyperlink" Target="http://www.artcyclopedia.com/goto/prints-1639123" TargetMode="External"/><Relationship Id="rId39" Type="http://schemas.openxmlformats.org/officeDocument/2006/relationships/hyperlink" Target="http://www.artcyclopedia.com/artists/dominguez_oscar.html" TargetMode="External"/><Relationship Id="rId40" Type="http://schemas.openxmlformats.org/officeDocument/2006/relationships/hyperlink" Target="http://www.artcyclopedia.com/artists/varo_remedios.html" TargetMode="External"/><Relationship Id="rId41" Type="http://schemas.openxmlformats.org/officeDocument/2006/relationships/hyperlink" Target="http://www.artcyclopedia.com/artists/varo_remedios.html" TargetMode="External"/><Relationship Id="rId42" Type="http://schemas.openxmlformats.org/officeDocument/2006/relationships/hyperlink" Target="http://www.artcyclopedia.com/artists/donati_enrico.html" TargetMode="External"/><Relationship Id="rId43" Type="http://schemas.openxmlformats.org/officeDocument/2006/relationships/hyperlink" Target="http://www.artcyclopedia.com/artists/donati_enrico.html" TargetMode="External"/><Relationship Id="rId44" Type="http://schemas.openxmlformats.org/officeDocument/2006/relationships/hyperlink" Target="http://www.artcyclopedia.com/artists/donati_enrico.html" TargetMode="External"/><Relationship Id="rId45" Type="http://schemas.openxmlformats.org/officeDocument/2006/relationships/hyperlink" Target="http://www.artcyclopedia.com/artists/freddie_wilhelm.html" TargetMode="External"/><Relationship Id="rId46" Type="http://schemas.openxmlformats.org/officeDocument/2006/relationships/hyperlink" Target="http://www.artcyclopedia.com/artists/tanning_dorothea.html" TargetMode="External"/><Relationship Id="rId47" Type="http://schemas.openxmlformats.org/officeDocument/2006/relationships/hyperlink" Target="http://www.artcyclopedia.com/artists/matta_roberto.html" TargetMode="External"/><Relationship Id="rId48" Type="http://schemas.openxmlformats.org/officeDocument/2006/relationships/hyperlink" Target="http://www.artcyclopedia.com/artists/matta_roberto.html" TargetMode="External"/><Relationship Id="rId49" Type="http://schemas.openxmlformats.org/officeDocument/2006/relationships/hyperlink" Target="http://www.artcyclopedia.com/artists/oppenheim_meret.html" TargetMode="External"/><Relationship Id="rId50" Type="http://schemas.openxmlformats.org/officeDocument/2006/relationships/hyperlink" Target="http://www.artcyclopedia.com/artists/oppenheim_meret.html" TargetMode="External"/><Relationship Id="rId5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Surrealism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rt of Self Disco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Persistence of Memory - 193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Image:The Persistence of Memory.jpg"/>
          <p:cNvPicPr/>
          <p:nvPr/>
        </p:nvPicPr>
        <p:blipFill>
          <a:blip r:embed="rId1"/>
          <a:stretch/>
        </p:blipFill>
        <p:spPr>
          <a:xfrm>
            <a:off x="1066680" y="1195560"/>
            <a:ext cx="73152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leep - 193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Sleep, 1937"/>
          <p:cNvPicPr/>
          <p:nvPr/>
        </p:nvPicPr>
        <p:blipFill>
          <a:blip r:embed="rId1"/>
          <a:stretch/>
        </p:blipFill>
        <p:spPr>
          <a:xfrm>
            <a:off x="457200" y="1287360"/>
            <a:ext cx="82296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09720" y="1599840"/>
            <a:ext cx="3429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r Clothing - 194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Car Clothing, 1941"/>
          <p:cNvPicPr/>
          <p:nvPr/>
        </p:nvPicPr>
        <p:blipFill>
          <a:blip r:embed="rId1"/>
          <a:stretch/>
        </p:blipFill>
        <p:spPr>
          <a:xfrm>
            <a:off x="0" y="0"/>
            <a:ext cx="519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5520" y="8377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donna with a Mystical Rose - 196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Madonna with a Mystical Rose, 1963"/>
          <p:cNvPicPr/>
          <p:nvPr/>
        </p:nvPicPr>
        <p:blipFill>
          <a:blip r:embed="rId1"/>
          <a:stretch/>
        </p:blipFill>
        <p:spPr>
          <a:xfrm>
            <a:off x="0" y="0"/>
            <a:ext cx="594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ala’s Castle at Pubol - 197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Gala’s Castle at Pubol, 1973"/>
          <p:cNvPicPr/>
          <p:nvPr/>
        </p:nvPicPr>
        <p:blipFill>
          <a:blip r:embed="rId1"/>
          <a:stretch/>
        </p:blipFill>
        <p:spPr>
          <a:xfrm>
            <a:off x="1295280" y="1143000"/>
            <a:ext cx="655344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né Magritte 1898-1967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gian Surre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ed as a poster and advertisement designer until he was able to be a full time pain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first painting was ridiculed, so he moved to Paris where he met Andre Breton and became involved with the Surreali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 returned to Brussels and remained there during WW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painted ordinary objects in unusual juxtapos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René MAGRITTE"/>
          <p:cNvPicPr/>
          <p:nvPr/>
        </p:nvPicPr>
        <p:blipFill>
          <a:blip r:embed="rId1"/>
          <a:stretch/>
        </p:blipFill>
        <p:spPr>
          <a:xfrm>
            <a:off x="6172200" y="1981080"/>
            <a:ext cx="2552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29200" y="277920"/>
            <a:ext cx="36576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Portrait - 193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René Magritte. The Portrait. Brussels 1935"/>
          <p:cNvPicPr/>
          <p:nvPr/>
        </p:nvPicPr>
        <p:blipFill>
          <a:blip r:embed="rId1"/>
          <a:stretch/>
        </p:blipFill>
        <p:spPr>
          <a:xfrm>
            <a:off x="0" y="0"/>
            <a:ext cx="461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Treachery of Images - 192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Image:MagrittePipe.jpg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867280" y="228600"/>
            <a:ext cx="2819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uman Condition - 193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" descr="René Magritte. La Condition humaine."/>
          <p:cNvPicPr/>
          <p:nvPr/>
        </p:nvPicPr>
        <p:blipFill>
          <a:blip r:embed="rId1"/>
          <a:stretch/>
        </p:blipFill>
        <p:spPr>
          <a:xfrm>
            <a:off x="0" y="-57240"/>
            <a:ext cx="551484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2880" y="277920"/>
            <a:ext cx="373392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 Durée Poignardée - 193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René Magritte. La Durée poignardée.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irth of Surrea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realism evolved from the Dada movement shortly after WW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e Breton, a French Doctor who served in WWI, led the movement (although he was a writer, not a painte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realist artists were interested in the writings of psychoanalysts like Sigmund Freud and Carl Ju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realists used the subconscious mind and dreams as the inspiration for a new type of 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10080" y="277920"/>
            <a:ext cx="327672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on of Man - 196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Image:Magritte TheSonOfMan.jpg"/>
          <p:cNvPicPr/>
          <p:nvPr/>
        </p:nvPicPr>
        <p:blipFill>
          <a:blip r:embed="rId1"/>
          <a:stretch/>
        </p:blipFill>
        <p:spPr>
          <a:xfrm>
            <a:off x="0" y="0"/>
            <a:ext cx="514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lconde - 195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01028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Surrealist Arti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rancis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Picabi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79-1953 French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Jean Ar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86-1966 German/French Painter/Sculptor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Marcel Ducham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87-1968 French/American Conceptual Artist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Paul Nas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89-1946 English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Man R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0-1976 American Photographer/Painter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Max Ern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1-1976 German/French Painter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Alberto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Savini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1-1952 Greek/Italian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Joan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Mir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3-1983 Spanish Painter/Sculptor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 </a:t>
            </a:r>
            <a:br>
              <a:rPr sz="1400"/>
            </a:b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Claude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Cahu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4-1954 French Photograp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9"/>
              </a:rPr>
              <a:t>Andre Bret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6-1966 French Writer/Artist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0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1"/>
              </a:rPr>
              <a:t>Andre Mass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6-1987 French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2"/>
              </a:rPr>
              <a:t>Paul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3"/>
              </a:rPr>
              <a:t>Delvau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7-1994 Belgian Painter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4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5"/>
              </a:rPr>
              <a:t>Kay S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8-1963 American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6"/>
              </a:rPr>
              <a:t>Pavel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7"/>
              </a:rPr>
              <a:t>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8"/>
              </a:rPr>
              <a:t>Tchelitche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8-1957 Russian Pai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9"/>
              </a:rPr>
              <a:t>Eileen Aga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899-1991 British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0"/>
              </a:rPr>
              <a:t>Yves Tangu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00-1955 French/American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24280" y="1295280"/>
            <a:ext cx="4038840" cy="53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berto Giacometti 1901-1966 Swiss Painter/Sculpt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1"/>
              </a:rPr>
              <a:t>Stanley William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2"/>
              </a:rPr>
              <a:t>Hayt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01-1988 British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3"/>
              </a:rPr>
              <a:t>Hans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4"/>
              </a:rPr>
              <a:t>Bellm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02-1975 German/French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5"/>
              </a:rPr>
              <a:t>Boris Marg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02-1995 Ukrainian/American Painter/Printmak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6"/>
              </a:rPr>
              <a:t>Victor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7"/>
              </a:rPr>
              <a:t>Braun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03-1966 Romanian Painter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8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9"/>
              </a:rPr>
              <a:t>Oscar Dominguez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06-1957 Spanish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0"/>
              </a:rPr>
              <a:t>Remedios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1"/>
              </a:rPr>
              <a:t> Var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08-1963 Spanish/Mexican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2"/>
              </a:rPr>
              <a:t>Enrico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3"/>
              </a:rPr>
              <a:t>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4"/>
              </a:rPr>
              <a:t>Donat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Born 1909 American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5"/>
              </a:rPr>
              <a:t>Wilhelm Fredd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09-1995 Danish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6"/>
              </a:rPr>
              <a:t>Dorothea Tann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Born 1910 American Painter/Sculpto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7"/>
              </a:rPr>
              <a:t>Roberto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8"/>
              </a:rPr>
              <a:t>Matt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12-2002 Chilean/French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49"/>
              </a:rPr>
              <a:t>Meret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50"/>
              </a:rPr>
              <a:t> Oppenhei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1913-1985 German/Swiss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ven Dalsgaard 1914-1999 Danish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ames Gleeson Born 1915 Australian Painter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onora Carrington Born 1917 British/Mexican Painter/Wri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nulf Rainer Born 1929 Austrian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dolfo Opazo Bernales Born 1935 Chilean Pai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Surrealism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rre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ns bizarre or dreamlik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al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scribes art that is depicted as true to natural life as possible: reali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urreal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realistic objects in a bizarre or dreamlike s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iorgio de Chirico 1888-197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k-Italian proto-surrealist pa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d art at the Academy of Fine Arts in Munich, 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painted the piazzas and archways of the city of Turin, Italy during his “Metaphysical”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uenced the Surrealist artists Max Ernst, Salvador Dalí, and René Magri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Image:Giorgio de Chirico (portrait).jpg"/>
          <p:cNvPicPr/>
          <p:nvPr/>
        </p:nvPicPr>
        <p:blipFill>
          <a:blip r:embed="rId1"/>
          <a:stretch/>
        </p:blipFill>
        <p:spPr>
          <a:xfrm>
            <a:off x="5105520" y="1447920"/>
            <a:ext cx="3862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4120" y="277560"/>
            <a:ext cx="365760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nigma of a Day - 191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Giorgio de Chirico. The Enigma of a Day. Paris, early 1914"/>
          <p:cNvPicPr/>
          <p:nvPr/>
        </p:nvPicPr>
        <p:blipFill>
          <a:blip r:embed="rId1"/>
          <a:stretch/>
        </p:blipFill>
        <p:spPr>
          <a:xfrm>
            <a:off x="0" y="0"/>
            <a:ext cx="52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866920" y="304920"/>
            <a:ext cx="29718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ong of Love - 191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Giorgio de Chirico. The Song of Love. Paris, June-July 1914"/>
          <p:cNvPicPr/>
          <p:nvPr/>
        </p:nvPicPr>
        <p:blipFill>
          <a:blip r:embed="rId1"/>
          <a:stretch/>
        </p:blipFill>
        <p:spPr>
          <a:xfrm>
            <a:off x="0" y="0"/>
            <a:ext cx="562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866920" y="53352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vil Genius of a King - 191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Giorgio de Chirico. The Evil Genius of a King. Paris 1914-15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638320" y="429840"/>
            <a:ext cx="3124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eer - 191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Giorgio de Chirico. The Seer. Paris, winter 1914-15"/>
          <p:cNvPicPr/>
          <p:nvPr/>
        </p:nvPicPr>
        <p:blipFill>
          <a:blip r:embed="rId1"/>
          <a:stretch/>
        </p:blipFill>
        <p:spPr>
          <a:xfrm>
            <a:off x="-19080" y="0"/>
            <a:ext cx="527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27520" y="0"/>
            <a:ext cx="441648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lvador Dali 1904-1989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famous and influential Spanish Surre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red Pablo Picasso and did his early paintings in a cubist 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li was very eccentric and was kicked out of school for his behav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often at odds with other Surrealists because of his political vie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6:07:46Z</dcterms:created>
  <dc:creator>Authorized User</dc:creator>
  <dc:description/>
  <dc:language>en-US</dc:language>
  <cp:lastModifiedBy>Authorized User</cp:lastModifiedBy>
  <dcterms:modified xsi:type="dcterms:W3CDTF">2007-01-04T17:39:41Z</dcterms:modified>
  <cp:revision>7</cp:revision>
  <dc:subject/>
  <dc:title>Surrealism</dc:title>
</cp:coreProperties>
</file>